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075860524154409"/>
          <c:y val="0.0636592966315477"/>
          <c:w val="0.682520719778989"/>
          <c:h val="0.84077756343671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66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9ff33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Pt>
            <c:idx val="4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5"/>
            <c:spPr>
              <a:solidFill>
                <a:srgbClr val="83caff"/>
              </a:solidFill>
              <a:ln w="0">
                <a:noFill/>
              </a:ln>
            </c:spPr>
          </c:dPt>
          <c:dPt>
            <c:idx val="6"/>
            <c:spPr>
              <a:solidFill>
                <a:srgbClr val="314004"/>
              </a:solidFill>
              <a:ln w="0">
                <a:noFill/>
              </a:ln>
            </c:spPr>
          </c:dPt>
          <c:dPt>
            <c:idx val="7"/>
            <c:spPr>
              <a:solidFill>
                <a:srgbClr val="aecf00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4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5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6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7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8"/>
                <c:pt idx="0">
                  <c:v>Очень низкий </c:v>
                </c:pt>
                <c:pt idx="1">
                  <c:v>Низкий</c:v>
                </c:pt>
                <c:pt idx="2">
                  <c:v>Чуть выше низкого</c:v>
                </c:pt>
                <c:pt idx="3">
                  <c:v>Чуть ниже среднего</c:v>
                </c:pt>
                <c:pt idx="4">
                  <c:v>Средний</c:v>
                </c:pt>
                <c:pt idx="5">
                  <c:v>Чуть выше среднего</c:v>
                </c:pt>
                <c:pt idx="6">
                  <c:v>Высокий</c:v>
                </c:pt>
                <c:pt idx="7">
                  <c:v>Очень высоки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0</c:v>
                </c:pt>
                <c:pt idx="1">
                  <c:v>60</c:v>
                </c:pt>
                <c:pt idx="2">
                  <c:v>0</c:v>
                </c:pt>
                <c:pt idx="3">
                  <c:v>0</c:v>
                </c:pt>
                <c:pt idx="4">
                  <c:v>4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26424251474651"/>
          <c:y val="0.0326457931443834"/>
          <c:w val="0.273446833930705"/>
          <c:h val="0.967200949836747"/>
        </c:manualLayout>
      </c:layout>
      <c:overlay val="0"/>
      <c:spPr>
        <a:solidFill>
          <a:srgbClr val="eeeeee"/>
        </a:solidFill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1c1c1c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1"/>
      <c:rotY val="2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233058995461888"/>
          <c:y val="0.0360210229457762"/>
          <c:w val="0.751942158295516"/>
          <c:h val="0.73439302653506"/>
        </c:manualLayout>
      </c:layout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666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Высокий уровень </c:v>
                </c:pt>
                <c:pt idx="1">
                  <c:v>Средний уровень</c:v>
                </c:pt>
                <c:pt idx="2">
                  <c:v>Низкий уровень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</c:v>
                </c:pt>
                <c:pt idx="1">
                  <c:v>0.4</c:v>
                </c:pt>
                <c:pt idx="2">
                  <c:v>0.6</c:v>
                </c:pt>
              </c:numCache>
            </c:numRef>
          </c:val>
        </c:ser>
        <c:gapWidth val="100"/>
        <c:shape val="box"/>
        <c:axId val="35296550"/>
        <c:axId val="15563719"/>
        <c:axId val="0"/>
      </c:bar3DChart>
      <c:catAx>
        <c:axId val="35296550"/>
        <c:scaling>
          <c:orientation val="minMax"/>
        </c:scaling>
        <c:delete val="0"/>
        <c:axPos val="b"/>
        <c:numFmt formatCode="[$-419]0.0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63719"/>
        <c:crosses val="autoZero"/>
        <c:auto val="1"/>
        <c:lblAlgn val="ctr"/>
        <c:lblOffset val="100"/>
        <c:noMultiLvlLbl val="0"/>
      </c:catAx>
      <c:valAx>
        <c:axId val="15563719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.0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96550"/>
        <c:crossesAt val="1"/>
        <c:crossBetween val="between"/>
        <c:majorUnit val="0.2"/>
      </c:valAx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ccffff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336633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9ffc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1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Высокий уровень </c:v>
                </c:pt>
                <c:pt idx="1">
                  <c:v>Средний уровень</c:v>
                </c:pt>
                <c:pt idx="2">
                  <c:v>Низкий уровень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4</c:v>
                </c:pt>
                <c:pt idx="1">
                  <c:v>0.4</c:v>
                </c:pt>
                <c:pt idx="2">
                  <c:v>0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39809452643378"/>
          <c:y val="0.0369295274955652"/>
          <c:w val="0.319820661311414"/>
          <c:h val="0.83599419448476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aecf0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%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20</c:v>
                </c:pt>
              </c:numCache>
            </c:numRef>
          </c:val>
        </c:ser>
        <c:gapWidth val="100"/>
        <c:overlap val="0"/>
        <c:axId val="95565739"/>
        <c:axId val="43284808"/>
      </c:barChart>
      <c:catAx>
        <c:axId val="95565739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84808"/>
        <c:crosses val="autoZero"/>
        <c:auto val="1"/>
        <c:lblAlgn val="ctr"/>
        <c:lblOffset val="100"/>
        <c:noMultiLvlLbl val="0"/>
      </c:catAx>
      <c:valAx>
        <c:axId val="43284808"/>
        <c:scaling>
          <c:orientation val="minMax"/>
          <c:max val="100"/>
          <c:min val="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65739"/>
        <c:crossesAt val="1"/>
        <c:crossBetween val="between"/>
        <c:majorUnit val="20"/>
        <c:minorUnit val="10"/>
      </c:valAx>
      <c:spPr>
        <a:noFill/>
        <a:ln w="0">
          <a:solidFill>
            <a:srgbClr val="b3b3b3"/>
          </a:solidFill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ccffff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336633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9ffc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1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Высокий уровень </c:v>
                </c:pt>
                <c:pt idx="1">
                  <c:v>Средний уровень</c:v>
                </c:pt>
                <c:pt idx="2">
                  <c:v>Низкий уровень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4</c:v>
                </c:pt>
                <c:pt idx="1">
                  <c:v>0.4</c:v>
                </c:pt>
                <c:pt idx="2">
                  <c:v>0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0758251561106155"/>
          <c:y val="0.0636883884068673"/>
          <c:w val="0.68242640499554"/>
          <c:h val="0.8405021229462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66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Низкий</c:v>
                </c:pt>
                <c:pt idx="1">
                  <c:v>Средний</c:v>
                </c:pt>
                <c:pt idx="2">
                  <c:v>Высоки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0</c:v>
                </c:pt>
                <c:pt idx="1">
                  <c:v>50</c:v>
                </c:pt>
                <c:pt idx="2">
                  <c:v>30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59797799583705"/>
          <c:y val="0.617869669558796"/>
          <c:w val="0.378587360594796"/>
          <c:h val="0.325886262924668"/>
        </c:manualLayout>
      </c:layout>
      <c:overlay val="0"/>
      <c:spPr>
        <a:solidFill>
          <a:srgbClr val="eeeeee"/>
        </a:solidFill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1c1c1c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9"/>
      <c:rotY val="2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579d1c"/>
          </a:solidFill>
        </a:ln>
      </c:spPr>
    </c:sideWall>
    <c:backWall>
      <c:spPr>
        <a:noFill/>
        <a:ln w="0">
          <a:solidFill>
            <a:srgbClr val="579d1c"/>
          </a:solidFill>
        </a:ln>
      </c:spPr>
    </c:backWall>
    <c:plotArea>
      <c:layout>
        <c:manualLayout>
          <c:layoutTarget val="inner"/>
          <c:xMode val="edge"/>
          <c:yMode val="edge"/>
          <c:x val="0.215809768637532"/>
          <c:y val="0.0353963083604777"/>
          <c:w val="0.751670951156812"/>
          <c:h val="0.733767643865364"/>
        </c:manualLayout>
      </c:layout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666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Высокий уровень </c:v>
                </c:pt>
                <c:pt idx="1">
                  <c:v>Средний уровень</c:v>
                </c:pt>
                <c:pt idx="2">
                  <c:v>Низкий уровень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2</c:v>
                </c:pt>
                <c:pt idx="1">
                  <c:v>0.6</c:v>
                </c:pt>
                <c:pt idx="2">
                  <c:v>0.2</c:v>
                </c:pt>
              </c:numCache>
            </c:numRef>
          </c:val>
        </c:ser>
        <c:gapWidth val="100"/>
        <c:shape val="box"/>
        <c:axId val="63490029"/>
        <c:axId val="12746364"/>
        <c:axId val="0"/>
      </c:bar3DChart>
      <c:catAx>
        <c:axId val="63490029"/>
        <c:scaling>
          <c:orientation val="minMax"/>
        </c:scaling>
        <c:delete val="0"/>
        <c:axPos val="b"/>
        <c:numFmt formatCode="[$-419]0.0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46364"/>
        <c:crosses val="autoZero"/>
        <c:auto val="1"/>
        <c:lblAlgn val="ctr"/>
        <c:lblOffset val="100"/>
        <c:noMultiLvlLbl val="0"/>
      </c:catAx>
      <c:valAx>
        <c:axId val="12746364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.0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90029"/>
        <c:crossesAt val="1"/>
        <c:crossBetween val="between"/>
        <c:majorUnit val="0.2"/>
      </c:valAx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ccffff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336633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9ffc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1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Высокий уровень </c:v>
                </c:pt>
                <c:pt idx="1">
                  <c:v>Средний уровень</c:v>
                </c:pt>
                <c:pt idx="2">
                  <c:v>Низкий уровень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5</c:v>
                </c:pt>
                <c:pt idx="1">
                  <c:v>0.5</c:v>
                </c:pt>
                <c:pt idx="2">
                  <c:v>0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39534075104312"/>
          <c:y val="0.0368004443827246"/>
          <c:w val="0.31971488178025"/>
          <c:h val="0.83585613109290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aecf0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%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50</c:v>
                </c:pt>
              </c:numCache>
            </c:numRef>
          </c:val>
        </c:ser>
        <c:gapWidth val="100"/>
        <c:overlap val="0"/>
        <c:axId val="40205907"/>
        <c:axId val="86222469"/>
      </c:barChart>
      <c:catAx>
        <c:axId val="40205907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22469"/>
        <c:crosses val="autoZero"/>
        <c:auto val="1"/>
        <c:lblAlgn val="ctr"/>
        <c:lblOffset val="100"/>
        <c:noMultiLvlLbl val="0"/>
      </c:catAx>
      <c:valAx>
        <c:axId val="86222469"/>
        <c:scaling>
          <c:orientation val="minMax"/>
          <c:max val="100"/>
          <c:min val="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05907"/>
        <c:crossesAt val="1"/>
        <c:crossBetween val="between"/>
        <c:majorUnit val="20"/>
        <c:minorUnit val="10"/>
      </c:valAx>
      <c:spPr>
        <a:noFill/>
        <a:ln w="0">
          <a:solidFill>
            <a:srgbClr val="b3b3b3"/>
          </a:solidFill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1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4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7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8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9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10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11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12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0" y="0"/>
            <a:ext cx="2986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41400" y="752040"/>
            <a:ext cx="4984560" cy="373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ctr">
            <a:noAutofit/>
          </a:bodyPr>
          <a:p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89640" cy="44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0" y="9518760"/>
            <a:ext cx="2986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27"/>
          </p:nvPr>
        </p:nvSpPr>
        <p:spPr>
          <a:xfrm>
            <a:off x="3900240" y="9518400"/>
            <a:ext cx="2965320" cy="479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93AC4-623B-4C1F-902E-182021B5F0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59EB5-2213-4FD6-BF03-6B300462855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55A9C-A196-491A-8022-23FB47676E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03BCF-4D6A-4E9F-9BEC-F342B69D9C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3900600" y="95187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07DA0-E3D4-4A1E-810D-4389305170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900600" y="9518760"/>
            <a:ext cx="297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E34EA-A924-4AE6-934E-71DC7CA8B9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3900600" y="9518760"/>
            <a:ext cx="2981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E4021-16D7-4E2A-957F-C7E513A7129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6"/>
          <p:cNvSpPr/>
          <p:nvPr/>
        </p:nvSpPr>
        <p:spPr>
          <a:xfrm>
            <a:off x="3900600" y="9518760"/>
            <a:ext cx="298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6CA6E-43D8-4D33-B21A-5F12160E97D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701" name="Text Box 8"/>
          <p:cNvSpPr/>
          <p:nvPr/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3900600" y="9518760"/>
            <a:ext cx="298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AFFF9-473F-4047-AB9D-AEBDC5AFBE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E7B9F-789A-4BFE-8314-FF945D829D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58DA9-5909-4FC4-971D-D9EC6BAAE22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4987800" cy="3740400"/>
          </a:xfrm>
          <a:prstGeom prst="rect">
            <a:avLst/>
          </a:prstGeom>
          <a:ln w="0">
            <a:noFill/>
          </a:ln>
        </p:spPr>
      </p:sp>
      <p:sp>
        <p:nvSpPr>
          <p:cNvPr id="767" name="Text Box 3"/>
          <p:cNvSpPr/>
          <p:nvPr/>
        </p:nvSpPr>
        <p:spPr>
          <a:xfrm>
            <a:off x="689040" y="4759200"/>
            <a:ext cx="549252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ECB7D-B1A3-48A6-AFA3-C73CEF7DB4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E318C-DDE9-4240-BCFF-25DE6281B8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6EBC3-9E08-4D6F-9843-3408568F1F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3900600" y="95187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2D617-EAAF-47BD-9C31-5B941060FD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4"/>
          <p:cNvSpPr/>
          <p:nvPr/>
        </p:nvSpPr>
        <p:spPr>
          <a:xfrm>
            <a:off x="3900600" y="9518760"/>
            <a:ext cx="297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BD120-BEFC-4907-A621-DDF59654C0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"/>
          <p:cNvSpPr/>
          <p:nvPr/>
        </p:nvSpPr>
        <p:spPr>
          <a:xfrm>
            <a:off x="3900600" y="9518760"/>
            <a:ext cx="2981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3925B-08BE-491F-A443-4A6BCDCCC3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3900600" y="9518760"/>
            <a:ext cx="298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86DA5-8428-43FC-8F74-B477B6DA481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776" name="Text Box 8"/>
          <p:cNvSpPr/>
          <p:nvPr/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88A52-AD7F-410B-B139-0E30BF27A3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08EAE-EBB1-4649-A17D-4DDACCC630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4987800" cy="3740400"/>
          </a:xfrm>
          <a:prstGeom prst="rect">
            <a:avLst/>
          </a:prstGeom>
          <a:ln w="0">
            <a:noFill/>
          </a:ln>
        </p:spPr>
      </p:sp>
      <p:sp>
        <p:nvSpPr>
          <p:cNvPr id="780" name="Text Box 3"/>
          <p:cNvSpPr/>
          <p:nvPr/>
        </p:nvSpPr>
        <p:spPr>
          <a:xfrm>
            <a:off x="689040" y="4759200"/>
            <a:ext cx="549252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8F2C3-4F57-4560-8267-80E8EF48B2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D52F8-7856-415C-9855-13B79D8092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A7FF9-0BEA-44D4-876F-21AD4C389C4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900600" y="95187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82A52-F977-45E9-A54D-459DABC9AF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4"/>
          <p:cNvSpPr/>
          <p:nvPr/>
        </p:nvSpPr>
        <p:spPr>
          <a:xfrm>
            <a:off x="3900600" y="9518760"/>
            <a:ext cx="297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073E0-7F93-47CD-90CB-0C9B7784C0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3900600" y="9518760"/>
            <a:ext cx="2981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1C3E1-2539-41E0-BB1E-E964563350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3900600" y="9518760"/>
            <a:ext cx="298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0359D-3C64-4D64-86AC-E34B071967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789" name="Text Box 8"/>
          <p:cNvSpPr/>
          <p:nvPr/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B7826-79A9-463A-8351-9387BFDB72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DBFAF-803C-4BBB-9999-748E61181A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ACE1F-467B-424C-8BD3-1473916B0F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3900600" y="95187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8F7A9-FDC5-4E00-8D5E-5BF8E3B12F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3900600" y="9518760"/>
            <a:ext cx="297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EF0D7-AEAC-4C7B-9E22-A2460B5674E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3900600" y="9518760"/>
            <a:ext cx="2981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1360D-BF4B-47E6-BA8A-C77D223E2D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3900600" y="9518760"/>
            <a:ext cx="298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5CDDB-86E8-4AC9-8F60-3E573EE0DBD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711" name="Text Box 8"/>
          <p:cNvSpPr/>
          <p:nvPr/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89E7E-A7FE-4D36-89A7-B69AEE28BB0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7F69B-4E17-4566-ADBC-8043B66684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9720A-A8D3-4696-923A-BD952AA3C5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3900600" y="95187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FEB1E-7D08-4A47-9897-2960304FA0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900600" y="9518760"/>
            <a:ext cx="297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D1393-7844-441C-BECA-2D44E65313E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3900600" y="9518760"/>
            <a:ext cx="2981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1743D-A87C-4415-962B-CC5F0AB9129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3900600" y="9518760"/>
            <a:ext cx="298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231B8-A79D-4352-AF48-E9F8BF60497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720" name="Text Box 8"/>
          <p:cNvSpPr/>
          <p:nvPr/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89640" cy="44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EBB6E-AA8C-4D7A-9FFF-5BECA99875E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F26CE-12C6-415A-8BBB-62B3112315E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C15BB-83CD-4294-B94D-87E58DE81B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3900600" y="95187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C0E13-B544-4244-B5DC-3C17E5347A4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3900600" y="9518760"/>
            <a:ext cx="297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EDF90-58DF-4BFC-908D-42931E787C7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3900600" y="9518760"/>
            <a:ext cx="2981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BFEF7-384F-4A8F-9444-EA65A2EE000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3900600" y="9518760"/>
            <a:ext cx="298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94D6C-8C7D-48C5-8164-1DAF66E4F6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730" name="Text Box 8"/>
          <p:cNvSpPr/>
          <p:nvPr/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5C585-8A36-440B-94EC-CA5BD0E0616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A2C1C-A166-414B-A515-30498CCD7C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771CD-7488-4202-A110-2E243B6ED07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3900600" y="95187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0C938-050C-4CF7-8D13-0158B0FA1EA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3900600" y="9518760"/>
            <a:ext cx="297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F5A7F-C1EF-404C-9A81-7E30718A55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3900600" y="9518760"/>
            <a:ext cx="2981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EBE56-1AF7-4AE3-8AED-10D7D59DD88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3900600" y="9518760"/>
            <a:ext cx="298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ABBE8-E876-4E41-B4F5-B46052043A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739" name="Text Box 8"/>
          <p:cNvSpPr/>
          <p:nvPr/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3A26C-BB5A-4A3F-9F6F-12022EEE0AF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F6D7B-EF38-4E84-A5AD-7341A43190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FC08A-C0FA-445D-A4C2-3194CF03BA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744" name="Text Box 4"/>
          <p:cNvSpPr/>
          <p:nvPr/>
        </p:nvSpPr>
        <p:spPr>
          <a:xfrm>
            <a:off x="689040" y="4759200"/>
            <a:ext cx="549432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0323E-509C-4A98-9FFD-DE4014DC34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40CD5-464C-4D91-9EA7-C6F24672989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14D74-5251-4DAF-AC2C-CB6AFC1DC2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749" name="Text Box 4"/>
          <p:cNvSpPr/>
          <p:nvPr/>
        </p:nvSpPr>
        <p:spPr>
          <a:xfrm>
            <a:off x="689040" y="4759200"/>
            <a:ext cx="549432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1DBEF-9E5F-4D0E-88CB-CE0F4A1FDE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2AA83-EBD9-4812-8C95-E5584FC5267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E9CAA-2A14-40CE-9E29-D2280CDBCC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754" name="Text Box 4"/>
          <p:cNvSpPr/>
          <p:nvPr/>
        </p:nvSpPr>
        <p:spPr>
          <a:xfrm>
            <a:off x="689040" y="4759200"/>
            <a:ext cx="549432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19"/>
          <p:cNvSpPr/>
          <p:nvPr/>
        </p:nvSpPr>
        <p:spPr>
          <a:xfrm>
            <a:off x="3900600" y="9518760"/>
            <a:ext cx="2965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D29B9-2422-44D6-AF11-D7ADE65F07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"/>
          <p:cNvSpPr/>
          <p:nvPr/>
        </p:nvSpPr>
        <p:spPr>
          <a:xfrm>
            <a:off x="3900600" y="9518760"/>
            <a:ext cx="29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50FD7-64C2-4877-9296-4F224B9145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2"/>
          <p:cNvSpPr/>
          <p:nvPr/>
        </p:nvSpPr>
        <p:spPr>
          <a:xfrm>
            <a:off x="3900600" y="9518760"/>
            <a:ext cx="2968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1715D-84C7-4465-9FE1-AE372318E1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3900600" y="95187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F3FE8-D80F-4D10-A64C-6683B061DB6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3900600" y="9518760"/>
            <a:ext cx="297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B8341-8241-4653-9DAC-D1EF5EC884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3900600" y="9518760"/>
            <a:ext cx="2981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CF9FD-4335-4173-879A-82D0BCDA94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6"/>
          <p:cNvSpPr/>
          <p:nvPr/>
        </p:nvSpPr>
        <p:spPr>
          <a:xfrm>
            <a:off x="3900600" y="9518760"/>
            <a:ext cx="298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FEF1A-42AE-42BF-8F12-C6BE9537F5B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763" name="Text Box 8"/>
          <p:cNvSpPr/>
          <p:nvPr/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4E64-2297-45A3-B8A5-E46CF68D6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31A9-DA61-4140-A614-FB31BA8D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F24A-DD7B-4E8A-91CE-A14600CC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D2B8A-2981-4F23-8FAE-A9F56B04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B6E6C-2E9F-4CBB-BD2C-70A81308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9C44-F5A4-4ACD-8962-BD3EF04D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D107F-810C-4012-9E4C-00C2E86A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E8191-CA8E-4DEF-B45F-13D7344D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9E18D-B50A-4DCD-AC0B-B613E28C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4B54F-9EC5-4BA8-9129-9A0B56A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2DB51-60FA-49C9-BF18-2158927E2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6EAD2-32E3-4733-B8B2-D8546B33C0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F946-B741-4C9B-9BA7-A9DF8FF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B268B-EE6B-4CA8-A8AC-16DD715F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D8E04-AAFC-48B6-82F5-591A8648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049D0-3CE8-4905-936C-6625733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FD7F4-8F91-4B36-BBD9-6ADD046B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BE09A-9BE8-4ABC-AC8A-78BE2FD8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C6906-2B8A-460B-8062-393AB60D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C556E-88BF-4D03-B41C-0AF99D47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7C76D-47D9-41B9-BF6D-37A655E0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8F15C-B72B-4F82-A637-62F03A93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4AEB6-32AB-47AC-A511-B00295B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39B0-0CAD-4438-97BA-A75BC11F83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2E38E-49ED-4837-8360-8C027D8D8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B5F601-A52A-49BE-82EF-544D8672F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22F201-E474-4A32-9540-69F52CA6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182443-5C5A-475B-89C1-6B92F01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809D29-8122-4E14-8DF8-8C32AF5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6F0B87-BC9B-4AAA-BAD1-9D1F1288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68AC91-B6D2-45FF-B9ED-8FFD14C4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2F36A8-2C6C-4CC0-9536-8744C9DD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772A55-13C3-47E5-A90F-9B066388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F97674-026B-4AC0-A148-76DE4F8F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35112-495E-4854-A422-99CC19E2C6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1A45DA-F86E-4C35-B6E0-AE2A11E8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9F781-4D28-443E-BAA2-0DD49F76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CF5E28-ED96-4EB6-9F79-E9F52D1C5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A483E-7658-4F7A-9994-81CCA3F830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42022-616F-4E3D-A5B8-337444E6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A2740-9320-48FD-AA1D-EA14484B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5B9B-7BD6-404E-B7FC-61BE427D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97126-FB40-4FE7-819A-B13D5A27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97D2-F96F-46E0-8754-0F2A7C99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4AAA0-2092-427F-9535-D5D08919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FA425-6BF6-41B8-B51A-9B957016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446EE-B7B5-438D-829B-DE1AD3D6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E5FDE-E800-406C-A2A9-533727FC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D7E2E-70F3-4653-BF15-3D05DA12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573C7-C5FC-49C3-845A-CB1B5C7B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A8AF6-F05F-4A94-B62B-6727C4A24C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7EA51-A336-4355-AF8E-7C48F605B8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38D1B-D0BA-40C3-B029-9351BEC7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F2E66-B975-48C9-9C83-2334F3D3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C11410-1121-4D8E-9D9D-76FF3C54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2D1EC-ADF0-417B-BC79-A5498CE5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E4795-7C65-4B50-9C89-CCC6108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D09896-212B-4D87-9A9B-DCDAC4A4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D648CC-5F65-4641-9287-EC36A944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124358-34F9-4E5C-B5C3-C08BF00C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A89D8-EC7F-4F49-978A-2C32064A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6F8420-84BA-4E07-8FB3-DE93C673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6774CC-2291-4F14-AA6D-C8A9FB4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9961D3-0D33-4559-B2ED-F39CF2D38B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D033D-1306-4333-B2A5-CFBF65C0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13892-F0B5-4C13-B63F-8DA88832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6B742-655C-48D6-A35F-CFF58ABD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9B134-78DD-4C5A-A8E8-60180E5C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A6E9-3BE4-4B03-8626-F339FFA3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DDFA0-7F5A-4E0E-883E-73B2CA4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DE504-AD06-4774-89D4-D4D02078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F0C46-44C5-4719-AD33-3FB08A28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2B059-C2DD-4176-B804-43984954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AF822-748F-4C52-9E2A-D326AB03F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4F93-78E0-4EAC-9020-4C81D444C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5240-55B3-4C75-844F-7A9D4172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EF49-29D4-4BAA-A994-D9BCA77D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35EF-3F0F-4CB1-AB81-51298D69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26E2-C9AB-4713-A53E-6C1D4818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C9C7-EAA1-44B6-8FF2-30594616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213C-A9BD-4094-9733-E143CFA3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7437-107A-456E-BB85-832113FF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0575-6C1B-42C1-B06F-B583F88C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3D2C-FEB4-4A4E-BDE0-CAF621B7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8234-F833-4924-8184-D56BBB2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BFB4-1E3F-4549-8011-8A3BC3D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0033-3F02-43FE-B5C2-80F8D29186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F22B6-FAB1-4187-AD62-FA694606B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AC990-86EA-466E-AD59-FC9FA42E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B9D97-C838-4713-912B-2954D625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6B11-ACE9-4093-BF5C-82BEF283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1206D-C31E-488F-B224-3AB28C72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99E2B-2AA4-4C06-A08D-F8E1CDE5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B0764-7361-443E-906A-D0FD1C63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E8015-5610-44B8-9F42-7A6E06A5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14FD2-EFDA-4517-98D0-4BC40AE5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2E6D8-1237-4741-AB59-E3CF3C1A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EE402-D973-40CB-9309-5EF41621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EE6C1-5718-4F9D-B16F-11028C3A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9A6EB-E7B4-4E36-9EF4-266F1D46D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353F9-9605-455C-BF1F-C5E625F6D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8379-626C-468C-AEBA-AAAFC0CB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97E92E-F294-4396-909E-C7AB1314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619DB-DEA1-464D-ABD4-49AC4F1A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1A868-28AF-44A9-ABC8-9F45A392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B28AF-26EF-4F2D-9E3F-72DF6286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48250-2F29-42B5-BBE3-A2DDA16A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923F59-6552-442E-A08C-92BD2207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77AED-B258-48C7-AE08-1747A582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8F973-C59E-4EC6-AF07-15A91C3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5FBE3-62D2-4F98-98C4-A983771F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763DF-4BAE-4334-9C06-C60F3B94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8B87-E3F7-4233-A6E6-993C7425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53016-2F57-4A27-9ED6-658A98857B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897B-0A58-495E-8DE0-0CEFA86DC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5911-3F19-48C5-8A80-C6C74F64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2FE3-F3BA-48B2-A9F2-FBDBF981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2959-4F2D-484A-90F8-C44A0583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64145-A1C3-4445-BD16-D50EDB28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561D-5B60-4133-9C73-CF35D732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2856-0DB2-4CF2-A273-6318A574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A965-0F62-4285-874B-21F1DE3C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461E-F021-455A-B313-1322A826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E524-23C4-4947-99D8-F3B95F1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86D7-58F8-4A75-92E4-08573EAA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35B6-062E-47DE-97F5-93B420C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06801-CFE2-427E-BDCD-255D2D72F4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6F4C7-7A83-47A3-A74D-EA917B4EC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D99DC-934D-4719-8D95-BA40E3EE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3EDEE-633A-4B13-930D-B17CA11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38AE5-FB63-4591-8431-E0F50567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274B1-777F-456E-9787-30C4A1A5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C9AE6-6C00-4019-BEB9-772D455E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D7E30-AB03-40B6-814A-6E199DA0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D87F-B24B-43CE-8F8B-18727046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EDA4C-D621-4F7B-A820-50CACA5A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A03AC-BE24-46D4-B8A8-DFF37C4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EEF22-DF61-4378-8281-95F11C5A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04131-894C-43C3-B588-F8799DF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87EF5-DE09-4A12-8084-B1805DE34C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1B274-E653-4DD2-A61A-E1B535158D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9B4D32-5CA0-4651-B51B-CC3822D9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738611-1EB8-4D5E-B9BE-7818F95F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05B2EB-DC43-4EF3-839B-9B0AEC5A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79B5CC-90BB-45CD-B874-F52D06C0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D067-DCB0-4445-A054-49CF7AA6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659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834FC2-9C23-4469-8E97-3A22B10E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6B7E3E-23AC-4FDD-B232-34B46F2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29D4E0-9D05-416E-B140-2440B41E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96AADC-39EF-444D-B07F-AB6AD02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07080"/>
            <a:ext cx="8665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550E9B-E75D-4B6A-BF45-FA3C0168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45520" y="155376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45520" y="3907080"/>
            <a:ext cx="42289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EF8AC9-797C-4138-A7DA-883501D1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532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65360" y="155376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532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65360" y="3907080"/>
            <a:ext cx="27903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3E9A7-4886-404C-9C75-DE57A0B69C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3700-519A-43E7-8F92-AFE3D0B1B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93DA0-F30E-43F4-80FD-E395510B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2BD4A-0A62-4195-86B5-F8DDAE82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FF053E-F5BA-4DFC-9490-45846E366C0C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E19454-EC51-4CCF-9AD1-D8DE579BD51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9" name="Picture 10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1047600"/>
            <a:ext cx="8623080" cy="5400"/>
            <a:chOff x="506520" y="1047600"/>
            <a:chExt cx="8623080" cy="5400"/>
          </a:xfrm>
        </p:grpSpPr>
        <p:pic>
          <p:nvPicPr>
            <p:cNvPr id="12" name="Picture 13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2308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2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CB32A1-5C62-4E32-B56A-43E94E10B1E3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0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96FAC8-2D86-477D-B0EA-DC2F9159D109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1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459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3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4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462" name="Picture 5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6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7"/>
          <p:cNvGrpSpPr/>
          <p:nvPr/>
        </p:nvGrpSpPr>
        <p:grpSpPr>
          <a:xfrm>
            <a:off x="506520" y="1047600"/>
            <a:ext cx="8623080" cy="5400"/>
            <a:chOff x="506520" y="1047600"/>
            <a:chExt cx="8623080" cy="5400"/>
          </a:xfrm>
        </p:grpSpPr>
        <p:pic>
          <p:nvPicPr>
            <p:cNvPr id="465" name="Picture 8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2308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9"/>
            <p:cNvSpPr/>
            <p:nvPr/>
          </p:nvSpPr>
          <p:spPr>
            <a:xfrm>
              <a:off x="514440" y="1052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1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493D32-C2DE-4C41-9051-2143C8FAF4B2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2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2A0704-026A-4C69-B205-819CB81F03E1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3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57C2F7-ADF5-4959-B862-699FFD896450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4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4C518B-CC82-4C8B-9E2F-29E473EC1FE3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1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550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3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Group 4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553" name="Picture 5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6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Group 7"/>
          <p:cNvGrpSpPr/>
          <p:nvPr/>
        </p:nvGrpSpPr>
        <p:grpSpPr>
          <a:xfrm>
            <a:off x="506520" y="1047600"/>
            <a:ext cx="8623080" cy="5400"/>
            <a:chOff x="506520" y="1047600"/>
            <a:chExt cx="8623080" cy="5400"/>
          </a:xfrm>
        </p:grpSpPr>
        <p:pic>
          <p:nvPicPr>
            <p:cNvPr id="556" name="Picture 8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2308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 Box 9"/>
            <p:cNvSpPr/>
            <p:nvPr/>
          </p:nvSpPr>
          <p:spPr>
            <a:xfrm>
              <a:off x="514440" y="1052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25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CF2086-9E45-4461-90FD-B4469DE898E8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6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2B94B7-D2FF-4E37-90CF-D6F28A1AFF27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4022640"/>
            <a:ext cx="8623080" cy="5040"/>
            <a:chOff x="506520" y="4022640"/>
            <a:chExt cx="8623080" cy="5040"/>
          </a:xfrm>
        </p:grpSpPr>
        <p:pic>
          <p:nvPicPr>
            <p:cNvPr id="51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4022640"/>
              <a:ext cx="8623080" cy="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2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ADC63B-B450-4A7B-A8C1-7D55940D4B27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880"/>
            <a:ext cx="738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9A8107-EEC6-4006-B7A6-1DAC7A106724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95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98" name="Picture 5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1047600"/>
            <a:ext cx="8623080" cy="5400"/>
            <a:chOff x="506520" y="1047600"/>
            <a:chExt cx="8623080" cy="5400"/>
          </a:xfrm>
        </p:grpSpPr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2308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2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BBE536-2AA3-4C0C-950E-3733B0359E99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022A77-1074-4EE8-A666-61480725916A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3432240"/>
            <a:ext cx="8623080" cy="3600"/>
            <a:chOff x="506520" y="3432240"/>
            <a:chExt cx="8623080" cy="3600"/>
          </a:xfrm>
        </p:grpSpPr>
        <p:pic>
          <p:nvPicPr>
            <p:cNvPr id="145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23080" cy="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3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E7CE12-330A-4379-98CF-40AB210B1AA0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174A6B-53D9-4A66-A6A7-6A3B92821696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189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4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192" name="Picture 5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6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7"/>
          <p:cNvGrpSpPr/>
          <p:nvPr/>
        </p:nvGrpSpPr>
        <p:grpSpPr>
          <a:xfrm>
            <a:off x="506520" y="1047600"/>
            <a:ext cx="8623080" cy="5400"/>
            <a:chOff x="506520" y="1047600"/>
            <a:chExt cx="8623080" cy="5400"/>
          </a:xfrm>
        </p:grpSpPr>
        <p:pic>
          <p:nvPicPr>
            <p:cNvPr id="195" name="Picture 8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2308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9"/>
            <p:cNvSpPr/>
            <p:nvPr/>
          </p:nvSpPr>
          <p:spPr>
            <a:xfrm>
              <a:off x="514440" y="1052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9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4C32CA-80FD-4619-9403-E62BB44A4A33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0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E3C3F9-A804-4C43-BB95-26B1B2D5342F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"/>
          <p:cNvGrpSpPr/>
          <p:nvPr/>
        </p:nvGrpSpPr>
        <p:grpSpPr>
          <a:xfrm>
            <a:off x="506520" y="6010200"/>
            <a:ext cx="8623080" cy="5040"/>
            <a:chOff x="506520" y="6010200"/>
            <a:chExt cx="8623080" cy="5040"/>
          </a:xfrm>
        </p:grpSpPr>
        <p:pic>
          <p:nvPicPr>
            <p:cNvPr id="239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2308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3"/>
            <p:cNvSpPr/>
            <p:nvPr/>
          </p:nvSpPr>
          <p:spPr>
            <a:xfrm>
              <a:off x="514440" y="6014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1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32AAA9-B7B0-4E9D-ADC1-CD56028BC095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41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24531F-F233-45CA-AA61-FA5DF41DD7DC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283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3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4"/>
          <p:cNvGrpSpPr/>
          <p:nvPr/>
        </p:nvGrpSpPr>
        <p:grpSpPr>
          <a:xfrm>
            <a:off x="506520" y="1036800"/>
            <a:ext cx="8623080" cy="9720"/>
            <a:chOff x="506520" y="1036800"/>
            <a:chExt cx="8623080" cy="9720"/>
          </a:xfrm>
        </p:grpSpPr>
        <p:pic>
          <p:nvPicPr>
            <p:cNvPr id="286" name="Picture 5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2308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514440" y="1046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506520" y="1047600"/>
            <a:ext cx="8623080" cy="5400"/>
            <a:chOff x="506520" y="1047600"/>
            <a:chExt cx="8623080" cy="5400"/>
          </a:xfrm>
        </p:grpSpPr>
        <p:pic>
          <p:nvPicPr>
            <p:cNvPr id="289" name="Picture 8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2308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9"/>
            <p:cNvSpPr/>
            <p:nvPr/>
          </p:nvSpPr>
          <p:spPr>
            <a:xfrm>
              <a:off x="514440" y="1052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AE1738-2CDA-4560-AA44-63D24286E0D6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4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Эффективное управление временем и ресурсами.                                                                                            </a:t>
            </a:r>
            <a:fld id="{5A95143C-04FE-4634-B09C-122F5DA9D52D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5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AE2D52-51A7-42AC-80C6-74AD0316923B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B8B43E-79B8-4781-93B7-BFA121E38D82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1"/>
          <p:cNvGrpSpPr/>
          <p:nvPr/>
        </p:nvGrpSpPr>
        <p:grpSpPr>
          <a:xfrm>
            <a:off x="506520" y="5840280"/>
            <a:ext cx="8623080" cy="3600"/>
            <a:chOff x="506520" y="5840280"/>
            <a:chExt cx="8623080" cy="3600"/>
          </a:xfrm>
        </p:grpSpPr>
        <p:pic>
          <p:nvPicPr>
            <p:cNvPr id="374" name="Picture 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2308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3"/>
            <p:cNvSpPr/>
            <p:nvPr/>
          </p:nvSpPr>
          <p:spPr>
            <a:xfrm>
              <a:off x="514440" y="5843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659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659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7"/>
          </p:nvPr>
        </p:nvSpPr>
        <p:spPr>
          <a:xfrm>
            <a:off x="6476760" y="75960"/>
            <a:ext cx="249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6CAC1A-7E9B-4899-A75A-CED0ECB3A867}" type="datetime">
              <a:rPr b="0" lang="ru-RU" sz="12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8"/>
          </p:nvPr>
        </p:nvSpPr>
        <p:spPr>
          <a:xfrm>
            <a:off x="468360" y="6476760"/>
            <a:ext cx="850248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2ED59D-637F-4139-851D-974772B81D02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chart" Target="../charts/chart7.xml"/><Relationship Id="rId3" Type="http://schemas.openxmlformats.org/officeDocument/2006/relationships/chart" Target="../charts/chart8.xml"/><Relationship Id="rId4" Type="http://schemas.openxmlformats.org/officeDocument/2006/relationships/chart" Target="../charts/chart9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chart" Target="../charts/chart4.xml"/><Relationship Id="rId5" Type="http://schemas.openxmlformats.org/officeDocument/2006/relationships/chart" Target="../charts/chart5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1"/>
          <p:cNvSpPr/>
          <p:nvPr/>
        </p:nvSpPr>
        <p:spPr>
          <a:xfrm>
            <a:off x="285840" y="3214800"/>
            <a:ext cx="8496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                 </a:t>
            </a: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ПРЕЗЕНТАЦИЯ ПРОЕКТА</a:t>
            </a:r>
            <a:br>
              <a:rPr sz="3200"/>
            </a:br>
            <a:r>
              <a:rPr b="0" lang="ru-RU" sz="2400" spc="-1" strike="noStrike">
                <a:solidFill>
                  <a:srgbClr val="464646"/>
                </a:solidFill>
                <a:latin typeface="Franklin Gothic Medium"/>
              </a:rPr>
              <a:t>Создание театрализованного уголка, как объекта развивающей среды в разновозрастной группе дошкольного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Franklin Gothic Medium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214200" y="1989000"/>
            <a:ext cx="72867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d3d3d"/>
                </a:solidFill>
                <a:latin typeface="Franklin Gothic Book"/>
              </a:rPr>
              <a:t>МУНИЦИПАЛЬНОЕ БЮДЖЕТНОЕ ОБЩЕОБРАЗОВАТЕЛЬНОЕ УЧРЕЖДЕНИЕ «НИЖНЕСЕРЕБРЯНСКАЯ ОСНОВНАЯ ОБЩЕОБРАЗОВАТЕЛЬНАЯ ШКОЛА РОВЕНЬСКОГО РАЙОНА БЕЛГОРОД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357120" y="5429160"/>
            <a:ext cx="33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Воспитатель детского са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Franklin Gothic Book"/>
              </a:rPr>
              <a:t>Мягкая Ирина Владими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285840" y="6286680"/>
            <a:ext cx="17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Franklin Gothic Book"/>
              </a:rPr>
              <a:t>Ровеньки, 2019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5" descr=""/>
          <p:cNvPicPr/>
          <p:nvPr/>
        </p:nvPicPr>
        <p:blipFill>
          <a:blip r:embed="rId1"/>
          <a:stretch/>
        </p:blipFill>
        <p:spPr>
          <a:xfrm>
            <a:off x="571680" y="142920"/>
            <a:ext cx="133956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1"/>
          <p:cNvSpPr/>
          <p:nvPr/>
        </p:nvSpPr>
        <p:spPr>
          <a:xfrm>
            <a:off x="457200" y="5634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08000" y="1268280"/>
          <a:ext cx="8931240" cy="4857840"/>
        </p:xfrm>
        <a:graphic>
          <a:graphicData uri="http://schemas.openxmlformats.org/drawingml/2006/table">
            <a:tbl>
              <a:tblPr/>
              <a:tblGrid>
                <a:gridCol w="363600"/>
                <a:gridCol w="2840040"/>
                <a:gridCol w="828720"/>
                <a:gridCol w="776160"/>
                <a:gridCol w="655560"/>
                <a:gridCol w="658800"/>
                <a:gridCol w="741600"/>
                <a:gridCol w="771480"/>
                <a:gridCol w="550800"/>
                <a:gridCol w="744480"/>
              </a:tblGrid>
              <a:tr h="457200">
                <a:tc rowSpan="2">
                  <a:txBody>
                    <a:bodyPr lIns="36000" rIns="36000" tIns="565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565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565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54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54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54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федера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4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ласт 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4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ест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иневест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хоз. субъ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ем ные сре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54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52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зготовление атрибу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1080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00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1080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00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54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52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ыпуск афи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1080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00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1080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00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54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52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зготовление биле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1080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00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1080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00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54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52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убликации и заметки в районной газете «Ровеньская Нив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1080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00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1080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00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652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2"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2124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5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760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21240" bIns="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760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760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760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760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57600" bIns="46800" anchor="ctr">
                      <a:noAutofit/>
                    </a:bodyPr>
                    <a:p>
                      <a:pPr algn="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В РЕЗУЛЬТАТЕ РЕАЛИЗАЦИИ ПРОЕКТА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6048360" y="3778200"/>
            <a:ext cx="3214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Планируемый у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ровень речевого развития дошкольников 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а конец 2022 г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(методика О.А. Безруковой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42920" y="876240"/>
          <a:ext cx="5365800" cy="3559320"/>
        </p:xfrm>
        <a:graphic>
          <a:graphicData uri="http://schemas.openxmlformats.org/drawingml/2006/table">
            <a:tbl>
              <a:tblPr/>
              <a:tblGrid>
                <a:gridCol w="1338120"/>
                <a:gridCol w="1258920"/>
                <a:gridCol w="490680"/>
                <a:gridCol w="407880"/>
                <a:gridCol w="433440"/>
                <a:gridCol w="433440"/>
                <a:gridCol w="487440"/>
                <a:gridCol w="515880"/>
              </a:tblGrid>
              <a:tr h="1118880">
                <a:tc rowSpan="2">
                  <a:txBody>
                    <a:bodyPr lIns="90000" rIns="90000" tIns="341640" bIns="46800" anchor="t">
                      <a:noAutofit/>
                    </a:bodyPr>
                    <a:p>
                      <a:pPr algn="ctr">
                        <a:lnSpc>
                          <a:spcPct val="7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 rowSpan="2">
                  <a:txBody>
                    <a:bodyPr lIns="0" rIns="0" tIns="293400" bIns="0" anchor="t">
                      <a:noAutofit/>
                    </a:bodyPr>
                    <a:p>
                      <a:pPr>
                        <a:lnSpc>
                          <a:spcPct val="7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етод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 gridSpan="6">
                  <a:txBody>
                    <a:bodyPr lIns="90000" rIns="90000" tIns="34164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ровень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развивающей среды в разновозрастной группе дошкольного образовательного учреж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287280" bIns="46800" anchor="t">
                      <a:noAutofit/>
                    </a:bodyPr>
                    <a:p>
                      <a:pPr algn="ctr">
                        <a:lnSpc>
                          <a:spcPct val="7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ысокий уровен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287280" bIns="46800" anchor="t">
                      <a:noAutofit/>
                    </a:bodyPr>
                    <a:p>
                      <a:pPr algn="ctr">
                        <a:lnSpc>
                          <a:spcPct val="7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ий уровен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287280" bIns="46800" anchor="t">
                      <a:noAutofit/>
                    </a:bodyPr>
                    <a:p>
                      <a:pPr algn="ctr">
                        <a:lnSpc>
                          <a:spcPct val="7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изкий уровен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 gridSpan="2">
                  <a:txBody>
                    <a:bodyPr lIns="0" rIns="0" tIns="46080" bIns="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24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24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24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24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24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24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91560">
                <a:tc>
                  <a:txBody>
                    <a:bodyPr lIns="0" rIns="0" tIns="41760" bIns="0" anchor="t">
                      <a:noAutofit/>
                    </a:bodyPr>
                    <a:p>
                      <a:pPr marL="95400">
                        <a:lnSpc>
                          <a:spcPct val="89000"/>
                        </a:lnSpc>
                        <a:tabLst>
                          <a:tab algn="l" pos="0"/>
                          <a:tab algn="l" pos="95400"/>
                          <a:tab algn="l" pos="542880"/>
                          <a:tab algn="l" pos="992160"/>
                          <a:tab algn="l" pos="1441440"/>
                          <a:tab algn="l" pos="1890720"/>
                          <a:tab algn="l" pos="2340000"/>
                          <a:tab algn="l" pos="2789280"/>
                          <a:tab algn="l" pos="3238560"/>
                          <a:tab algn="l" pos="3687840"/>
                          <a:tab algn="l" pos="4137120"/>
                          <a:tab algn="l" pos="4586400"/>
                          <a:tab algn="l" pos="5035680"/>
                          <a:tab algn="l" pos="5484960"/>
                          <a:tab algn="l" pos="5934240"/>
                          <a:tab algn="l" pos="6383160"/>
                          <a:tab algn="l" pos="6832440"/>
                          <a:tab algn="l" pos="7281720"/>
                          <a:tab algn="l" pos="7731000"/>
                          <a:tab algn="l" pos="8180280"/>
                          <a:tab algn="l" pos="8629560"/>
                          <a:tab algn="l" pos="9078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овень речевого развития дошкольник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24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тодика О.А. Безруков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771120"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сформированности коммуникативн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М.И Лиси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406080"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по возраст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marL="95400">
                        <a:lnSpc>
                          <a:spcPct val="89000"/>
                        </a:lnSpc>
                        <a:tabLst>
                          <a:tab algn="l" pos="0"/>
                          <a:tab algn="l" pos="95400"/>
                          <a:tab algn="l" pos="542880"/>
                          <a:tab algn="l" pos="992160"/>
                          <a:tab algn="l" pos="1441440"/>
                          <a:tab algn="l" pos="1890720"/>
                          <a:tab algn="l" pos="2340000"/>
                          <a:tab algn="l" pos="2789280"/>
                          <a:tab algn="l" pos="3238560"/>
                          <a:tab algn="l" pos="3687840"/>
                          <a:tab algn="l" pos="4137120"/>
                          <a:tab algn="l" pos="4586400"/>
                          <a:tab algn="l" pos="5035680"/>
                          <a:tab algn="l" pos="5484960"/>
                          <a:tab algn="l" pos="5934240"/>
                          <a:tab algn="l" pos="6383160"/>
                          <a:tab algn="l" pos="6832440"/>
                          <a:tab algn="l" pos="7281720"/>
                          <a:tab algn="l" pos="7731000"/>
                          <a:tab algn="l" pos="8180280"/>
                          <a:tab algn="l" pos="8629560"/>
                          <a:tab algn="l" pos="9078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А.Е Иванов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0680" bIns="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DejaVu Sans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7" name="Object 130"/>
          <p:cNvGraphicFramePr/>
          <p:nvPr/>
        </p:nvGraphicFramePr>
        <p:xfrm>
          <a:off x="6867360" y="1008000"/>
          <a:ext cx="2421000" cy="1949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78" name="Object 131"/>
          <p:cNvGraphicFramePr/>
          <p:nvPr/>
        </p:nvGraphicFramePr>
        <p:xfrm>
          <a:off x="6199200" y="4824360"/>
          <a:ext cx="2800440" cy="1657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679" name="Object 132"/>
          <p:cNvGraphicFramePr/>
          <p:nvPr/>
        </p:nvGraphicFramePr>
        <p:xfrm>
          <a:off x="317520" y="5178600"/>
          <a:ext cx="2376360" cy="1699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680" name="Rectangle 133"/>
          <p:cNvSpPr/>
          <p:nvPr/>
        </p:nvSpPr>
        <p:spPr>
          <a:xfrm>
            <a:off x="142920" y="4857840"/>
            <a:ext cx="26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вень развития в старшем возрас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тодика А.Е Иваново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34"/>
          <p:cNvSpPr/>
          <p:nvPr/>
        </p:nvSpPr>
        <p:spPr>
          <a:xfrm>
            <a:off x="6494400" y="735120"/>
            <a:ext cx="26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вень развития в младшем возрас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тодика А.Е Иваново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135"/>
          <p:cNvSpPr/>
          <p:nvPr/>
        </p:nvSpPr>
        <p:spPr>
          <a:xfrm>
            <a:off x="2759040" y="4967280"/>
            <a:ext cx="3527640" cy="1460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К июню 2022 года будет создан театрализованный уголок, как объект развивающей среды в разновозрастной группе  дошкольного образовательного учре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Object 136"/>
          <p:cNvGraphicFramePr/>
          <p:nvPr/>
        </p:nvGraphicFramePr>
        <p:xfrm>
          <a:off x="5508720" y="1368360"/>
          <a:ext cx="1673280" cy="259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84" name="Rectangle 137"/>
          <p:cNvSpPr/>
          <p:nvPr/>
        </p:nvSpPr>
        <p:spPr>
          <a:xfrm>
            <a:off x="6408720" y="237636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вень сформированности коммуникативной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тодика М.И Лисино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"/>
          <p:cNvSpPr/>
          <p:nvPr/>
        </p:nvSpPr>
        <p:spPr>
          <a:xfrm>
            <a:off x="3668760" y="503280"/>
            <a:ext cx="41068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мир — театр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женщины, мужчины –все актер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х свои есть выходы, уходы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ждый не одну играет р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. Шексп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5" descr="C:\Users\Иришка))\Desktop\mnogo-nas-teatr-370x220.jpg"/>
          <p:cNvPicPr/>
          <p:nvPr/>
        </p:nvPicPr>
        <p:blipFill>
          <a:blip r:embed="rId1"/>
          <a:stretch/>
        </p:blipFill>
        <p:spPr>
          <a:xfrm>
            <a:off x="684360" y="3284640"/>
            <a:ext cx="3524040" cy="20955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" descr="C:\Users\Иришка))\Desktop\julien-lasbleiz-shakespeare-final1-sign.jpg"/>
          <p:cNvPicPr/>
          <p:nvPr/>
        </p:nvPicPr>
        <p:blipFill>
          <a:blip r:embed="rId2"/>
          <a:stretch/>
        </p:blipFill>
        <p:spPr>
          <a:xfrm>
            <a:off x="5722920" y="3708360"/>
            <a:ext cx="233208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857160" y="571680"/>
            <a:ext cx="75438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4824360" y="2448000"/>
            <a:ext cx="417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КОНТАКТНЫЕ ДАННЫЕ</a:t>
            </a: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: </a:t>
            </a:r>
            <a:br>
              <a:rPr sz="3200"/>
            </a:br>
            <a:r>
              <a:rPr b="0" lang="ru-RU" sz="1400" spc="-1" strike="noStrike">
                <a:solidFill>
                  <a:srgbClr val="464646"/>
                </a:solidFill>
                <a:latin typeface="Franklin Gothic Medium"/>
              </a:rPr>
              <a:t>ТЕЛ.:8 (920) 561-70-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541440" y="37432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36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d3d3d"/>
                </a:solidFill>
                <a:latin typeface="Franklin Gothic Book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Руководитель проекта:</a:t>
            </a:r>
            <a:r>
              <a:rPr b="1" lang="ru-RU" sz="2400" spc="-1" strike="noStrike">
                <a:solidFill>
                  <a:srgbClr val="1c1c1c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Franklin Gothic Book"/>
              </a:rPr>
              <a:t>Мягкая Ирина Владими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7" descr="C:\Documents and Settings\Ученик\Рабочий стол\77c1c69a17381337b3c31917ce62f9cd.jpg"/>
          <p:cNvPicPr/>
          <p:nvPr/>
        </p:nvPicPr>
        <p:blipFill>
          <a:blip r:embed="rId1"/>
          <a:stretch/>
        </p:blipFill>
        <p:spPr>
          <a:xfrm rot="20657400">
            <a:off x="982800" y="3015720"/>
            <a:ext cx="316836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1"/>
          <p:cNvSpPr/>
          <p:nvPr/>
        </p:nvSpPr>
        <p:spPr>
          <a:xfrm>
            <a:off x="3714840" y="504720"/>
            <a:ext cx="3714840" cy="1133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хватка общения у де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новозрастной групп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2"/>
          <p:cNvSpPr/>
          <p:nvPr/>
        </p:nvSpPr>
        <p:spPr>
          <a:xfrm>
            <a:off x="4321080" y="4608360"/>
            <a:ext cx="4822920" cy="1341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граничение живого об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дети-родители, дети-дет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5572080" y="1071720"/>
            <a:ext cx="357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1214280" y="2428920"/>
            <a:ext cx="3897360" cy="1266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ные интересы и разные возмож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6" descr="C:\Users\Иришка))\Desktop\detyam-300x198.jpg"/>
          <p:cNvPicPr/>
          <p:nvPr/>
        </p:nvPicPr>
        <p:blipFill>
          <a:blip r:embed="rId1"/>
          <a:stretch/>
        </p:blipFill>
        <p:spPr>
          <a:xfrm rot="20382000">
            <a:off x="1214280" y="4221000"/>
            <a:ext cx="2857680" cy="18860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C:\Users\Иришка))\Desktop\interesnye-fakty-o-detah-0-001.jpg"/>
          <p:cNvPicPr/>
          <p:nvPr/>
        </p:nvPicPr>
        <p:blipFill>
          <a:blip r:embed="rId2"/>
          <a:stretch/>
        </p:blipFill>
        <p:spPr>
          <a:xfrm rot="799800">
            <a:off x="5392440" y="2147400"/>
            <a:ext cx="3251160" cy="18288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C:\Users\Иришка))\Desktop\714274215fcf937db3c3203e41d82972.jpg"/>
          <p:cNvPicPr/>
          <p:nvPr/>
        </p:nvPicPr>
        <p:blipFill>
          <a:blip r:embed="rId3"/>
          <a:stretch/>
        </p:blipFill>
        <p:spPr>
          <a:xfrm rot="21054000">
            <a:off x="522360" y="279360"/>
            <a:ext cx="3071880" cy="176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1"/>
          <p:cNvSpPr/>
          <p:nvPr/>
        </p:nvSpPr>
        <p:spPr>
          <a:xfrm>
            <a:off x="214200" y="0"/>
            <a:ext cx="8798040" cy="928800"/>
          </a:xfrm>
          <a:prstGeom prst="rect">
            <a:avLst/>
          </a:prstGeom>
          <a:solidFill>
            <a:srgbClr val="fef4fa"/>
          </a:solidFill>
          <a:ln cap="sq"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25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Franklin Gothic Book"/>
              </a:rPr>
              <a:t>Диагностика   уровня развивающей среды в разновозрастной группе дошкольного образовательного учре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826920" y="95724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Уровень речевого развития дошколь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(методика О.А. Безруковой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4" name="Object 3"/>
          <p:cNvGraphicFramePr/>
          <p:nvPr/>
        </p:nvGraphicFramePr>
        <p:xfrm>
          <a:off x="5992920" y="4941720"/>
          <a:ext cx="3144600" cy="14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635" name="Rectangle 4"/>
          <p:cNvSpPr/>
          <p:nvPr/>
        </p:nvSpPr>
        <p:spPr>
          <a:xfrm>
            <a:off x="6213600" y="4076640"/>
            <a:ext cx="273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вень развития в старшем возрас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тодика А.Е Иваново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6" name="Object 6"/>
          <p:cNvGraphicFramePr/>
          <p:nvPr/>
        </p:nvGraphicFramePr>
        <p:xfrm>
          <a:off x="214200" y="1519200"/>
          <a:ext cx="3997440" cy="227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637" name="Object 7"/>
          <p:cNvGraphicFramePr/>
          <p:nvPr/>
        </p:nvGraphicFramePr>
        <p:xfrm>
          <a:off x="3043080" y="4869000"/>
          <a:ext cx="3140280" cy="1628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638" name="Rectangle 8"/>
          <p:cNvSpPr/>
          <p:nvPr/>
        </p:nvSpPr>
        <p:spPr>
          <a:xfrm>
            <a:off x="3041640" y="404640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вень развития в младшем возрас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тодика А.Е Иваново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Object 9"/>
          <p:cNvGraphicFramePr/>
          <p:nvPr/>
        </p:nvGraphicFramePr>
        <p:xfrm>
          <a:off x="7020000" y="990720"/>
          <a:ext cx="1927080" cy="223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40" name="Rectangle 10"/>
          <p:cNvSpPr/>
          <p:nvPr/>
        </p:nvSpPr>
        <p:spPr>
          <a:xfrm>
            <a:off x="5148360" y="1300320"/>
            <a:ext cx="187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вень сформированности коммуникативной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тодика М.И Лисино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1" name="Диаграмма 3"/>
          <p:cNvGraphicFramePr/>
          <p:nvPr/>
        </p:nvGraphicFramePr>
        <p:xfrm>
          <a:off x="212760" y="4767120"/>
          <a:ext cx="2754360" cy="1952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  <p:sp>
        <p:nvSpPr>
          <p:cNvPr id="642" name="Прямоугольник 4"/>
          <p:cNvSpPr/>
          <p:nvPr/>
        </p:nvSpPr>
        <p:spPr>
          <a:xfrm>
            <a:off x="23760" y="4046400"/>
            <a:ext cx="34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бщения родителей и детей до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агностика И. Марковско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1" descr=""/>
          <p:cNvPicPr/>
          <p:nvPr/>
        </p:nvPicPr>
        <p:blipFill>
          <a:blip r:embed="rId1"/>
          <a:stretch/>
        </p:blipFill>
        <p:spPr>
          <a:xfrm>
            <a:off x="20520" y="4030560"/>
            <a:ext cx="1995480" cy="266544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3254400" y="4851360"/>
            <a:ext cx="3311640" cy="792360"/>
          </a:xfrm>
          <a:prstGeom prst="rect">
            <a:avLst/>
          </a:prstGeom>
          <a:solidFill>
            <a:srgbClr val="99ffff"/>
          </a:solidFill>
          <a:ln cap="sq"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1511280" y="2852640"/>
            <a:ext cx="3660840" cy="887400"/>
          </a:xfrm>
          <a:prstGeom prst="rect">
            <a:avLst/>
          </a:prstGeom>
          <a:solidFill>
            <a:srgbClr val="99ffff"/>
          </a:solidFill>
          <a:ln cap="sq"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формированность общих интерес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зличных видах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новозрастной групп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635040" y="1906560"/>
            <a:ext cx="3600360" cy="792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зкий уровен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уникативных способнос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297000" y="981000"/>
            <a:ext cx="3600360" cy="720720"/>
          </a:xfrm>
          <a:prstGeom prst="rect">
            <a:avLst/>
          </a:prstGeom>
          <a:solidFill>
            <a:srgbClr val="99ffff"/>
          </a:solidFill>
          <a:ln cap="sq"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зкий уровен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чевого развит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214200" y="214200"/>
            <a:ext cx="8686800" cy="685800"/>
          </a:xfrm>
          <a:prstGeom prst="roundRect">
            <a:avLst>
              <a:gd name="adj" fmla="val 16667"/>
            </a:avLst>
          </a:prstGeom>
          <a:solidFill>
            <a:srgbClr val="fef4fa"/>
          </a:solidFill>
          <a:ln cap="sq" w="25560">
            <a:solidFill>
              <a:srgbClr val="0066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Franklin Gothic Book"/>
              </a:rPr>
              <a:t>Проблемы, требующие ре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2097000" y="3933720"/>
            <a:ext cx="3527640" cy="792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достаточные навыки об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ей дошкольного возра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8" descr=""/>
          <p:cNvPicPr/>
          <p:nvPr/>
        </p:nvPicPr>
        <p:blipFill>
          <a:blip r:embed="rId2"/>
          <a:stretch/>
        </p:blipFill>
        <p:spPr>
          <a:xfrm>
            <a:off x="4756320" y="1265400"/>
            <a:ext cx="4341600" cy="1584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9" descr=""/>
          <p:cNvPicPr/>
          <p:nvPr/>
        </p:nvPicPr>
        <p:blipFill>
          <a:blip r:embed="rId3"/>
          <a:stretch/>
        </p:blipFill>
        <p:spPr>
          <a:xfrm>
            <a:off x="6777000" y="3740040"/>
            <a:ext cx="2376360" cy="19432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0"/>
          <p:cNvSpPr/>
          <p:nvPr/>
        </p:nvSpPr>
        <p:spPr>
          <a:xfrm>
            <a:off x="3254400" y="4989600"/>
            <a:ext cx="3170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блема недостаточного общения детей дошкольного возраста с род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4235400" y="5904000"/>
            <a:ext cx="3527640" cy="79200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зкий уровен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ворческих способностей 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о-игровой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127080" y="984240"/>
          <a:ext cx="8664480" cy="4821120"/>
        </p:xfrm>
        <a:graphic>
          <a:graphicData uri="http://schemas.openxmlformats.org/drawingml/2006/table">
            <a:tbl>
              <a:tblPr/>
              <a:tblGrid>
                <a:gridCol w="1407960"/>
                <a:gridCol w="7256520"/>
              </a:tblGrid>
              <a:tr h="682560">
                <a:tc>
                  <a:txBody>
                    <a:bodyPr lIns="36000" rIns="36000" tIns="402840" bIns="0" anchor="t">
                      <a:noAutofit/>
                    </a:bodyPr>
                    <a:p>
                      <a:pPr marL="71280">
                        <a:lnSpc>
                          <a:spcPct val="83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Цель проекта: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99960" bIns="0" anchor="t">
                      <a:noAutofit/>
                    </a:bodyPr>
                    <a:p>
                      <a:pPr marL="87480">
                        <a:lnSpc>
                          <a:spcPct val="82000"/>
                        </a:lnSpc>
                        <a:tabLst>
                          <a:tab algn="l" pos="0"/>
                          <a:tab algn="l" pos="87480"/>
                          <a:tab algn="l" pos="534960"/>
                          <a:tab algn="l" pos="984240"/>
                          <a:tab algn="l" pos="1433520"/>
                          <a:tab algn="l" pos="1882800"/>
                          <a:tab algn="l" pos="2332080"/>
                          <a:tab algn="l" pos="2781360"/>
                          <a:tab algn="l" pos="3230640"/>
                          <a:tab algn="l" pos="3679920"/>
                          <a:tab algn="l" pos="4129200"/>
                          <a:tab algn="l" pos="4578480"/>
                          <a:tab algn="l" pos="5027760"/>
                          <a:tab algn="l" pos="5477040"/>
                          <a:tab algn="l" pos="5925960"/>
                          <a:tab algn="l" pos="6375240"/>
                          <a:tab algn="l" pos="6824520"/>
                          <a:tab algn="l" pos="7273800"/>
                          <a:tab algn="l" pos="7723080"/>
                          <a:tab algn="l" pos="8172360"/>
                          <a:tab algn="l" pos="8621640"/>
                          <a:tab algn="l" pos="90709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здание условий для развития детей в разновозрастной группе через организацию театрализованной деятельности в дошкольном  образовательном  учрежден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36000" rIns="36000" tIns="402840" bIns="0" anchor="t">
                      <a:noAutofit/>
                    </a:bodyPr>
                    <a:p>
                      <a:pPr marL="71280">
                        <a:lnSpc>
                          <a:spcPct val="83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пособы достижения цели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99960" bIns="0" anchor="t">
                      <a:noAutofit/>
                    </a:bodyPr>
                    <a:p>
                      <a:pPr marL="87480">
                        <a:lnSpc>
                          <a:spcPct val="82000"/>
                        </a:lnSpc>
                        <a:tabLst>
                          <a:tab algn="l" pos="0"/>
                          <a:tab algn="l" pos="87480"/>
                          <a:tab algn="l" pos="534960"/>
                          <a:tab algn="l" pos="984240"/>
                          <a:tab algn="l" pos="1433520"/>
                          <a:tab algn="l" pos="1882800"/>
                          <a:tab algn="l" pos="2332080"/>
                          <a:tab algn="l" pos="2781360"/>
                          <a:tab algn="l" pos="3230640"/>
                          <a:tab algn="l" pos="3679920"/>
                          <a:tab algn="l" pos="4129200"/>
                          <a:tab algn="l" pos="4578480"/>
                          <a:tab algn="l" pos="5027760"/>
                          <a:tab algn="l" pos="5477040"/>
                          <a:tab algn="l" pos="5925960"/>
                          <a:tab algn="l" pos="6375240"/>
                          <a:tab algn="l" pos="6824520"/>
                          <a:tab algn="l" pos="7273800"/>
                          <a:tab algn="l" pos="7723080"/>
                          <a:tab algn="l" pos="8172360"/>
                          <a:tab algn="l" pos="8621640"/>
                          <a:tab algn="l" pos="90709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овлечение детей и родителей в создание театрализованного уголка при организации тематических праздник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>
                  <a:txBody>
                    <a:bodyPr lIns="36000" rIns="36000" tIns="402840" bIns="0" anchor="t">
                      <a:noAutofit/>
                    </a:bodyPr>
                    <a:p>
                      <a:pPr marL="71280">
                        <a:lnSpc>
                          <a:spcPct val="83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езультат проекта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99960" bIns="0" anchor="t">
                      <a:noAutofit/>
                    </a:bodyPr>
                    <a:p>
                      <a:pPr marL="87480">
                        <a:lnSpc>
                          <a:spcPct val="82000"/>
                        </a:lnSpc>
                        <a:tabLst>
                          <a:tab algn="l" pos="0"/>
                          <a:tab algn="l" pos="87480"/>
                          <a:tab algn="l" pos="534960"/>
                          <a:tab algn="l" pos="984240"/>
                          <a:tab algn="l" pos="1433520"/>
                          <a:tab algn="l" pos="1882800"/>
                          <a:tab algn="l" pos="2332080"/>
                          <a:tab algn="l" pos="2781360"/>
                          <a:tab algn="l" pos="3230640"/>
                          <a:tab algn="l" pos="3679920"/>
                          <a:tab algn="l" pos="4129200"/>
                          <a:tab algn="l" pos="4578480"/>
                          <a:tab algn="l" pos="5027760"/>
                          <a:tab algn="l" pos="5477040"/>
                          <a:tab algn="l" pos="5925960"/>
                          <a:tab algn="l" pos="6375240"/>
                          <a:tab algn="l" pos="6824520"/>
                          <a:tab algn="l" pos="7273800"/>
                          <a:tab algn="l" pos="7723080"/>
                          <a:tab algn="l" pos="8172360"/>
                          <a:tab algn="l" pos="8621640"/>
                          <a:tab algn="l" pos="90709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К  июню 2022 года будет создан театрализованный уголок, что повлечет за собой увеличение количества воспитанников с высоким уровнем речевого развития,  коммуникативных способностей, сформированными общими интересами в различных видах деятельности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0840">
                <a:tc>
                  <a:txBody>
                    <a:bodyPr lIns="36000" rIns="36000" tIns="402840" bIns="0" anchor="t">
                      <a:noAutofit/>
                    </a:bodyPr>
                    <a:p>
                      <a:pPr marL="71280">
                        <a:lnSpc>
                          <a:spcPct val="83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ребования к результату: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99960" bIns="0" anchor="t">
                      <a:noAutofit/>
                    </a:bodyPr>
                    <a:p>
                      <a:pPr marL="228600" indent="-228600">
                        <a:lnSpc>
                          <a:spcPct val="82000"/>
                        </a:lnSpc>
                        <a:buClr>
                          <a:srgbClr val="000000"/>
                        </a:buClr>
                        <a:buFont typeface="Franklin Gothic Book"/>
                        <a:buAutoNum type="arabicPeriod"/>
                        <a:tabLst>
                          <a:tab algn="l" pos="228600"/>
                          <a:tab algn="l" pos="676440"/>
                          <a:tab algn="l" pos="1125360"/>
                          <a:tab algn="l" pos="1574640"/>
                          <a:tab algn="l" pos="2023920"/>
                          <a:tab algn="l" pos="2473200"/>
                          <a:tab algn="l" pos="2922480"/>
                          <a:tab algn="l" pos="3371760"/>
                          <a:tab algn="l" pos="3821040"/>
                          <a:tab algn="l" pos="4270320"/>
                          <a:tab algn="l" pos="4719600"/>
                          <a:tab algn="l" pos="5168880"/>
                          <a:tab algn="l" pos="5618160"/>
                          <a:tab algn="l" pos="6067440"/>
                          <a:tab algn="l" pos="6516720"/>
                          <a:tab algn="l" pos="6966000"/>
                          <a:tab algn="l" pos="7415280"/>
                          <a:tab algn="l" pos="7864560"/>
                          <a:tab algn="l" pos="8313840"/>
                          <a:tab algn="l" pos="8763120"/>
                          <a:tab algn="l" pos="9212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зданы творческие группы по изготовлению театрализованных атрибутов для уголка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82000"/>
                        </a:lnSpc>
                        <a:buClr>
                          <a:srgbClr val="000000"/>
                        </a:buClr>
                        <a:buFont typeface="Franklin Gothic Book"/>
                        <a:buAutoNum type="arabicPeriod"/>
                        <a:tabLst>
                          <a:tab algn="l" pos="228600"/>
                          <a:tab algn="l" pos="676440"/>
                          <a:tab algn="l" pos="1125360"/>
                          <a:tab algn="l" pos="1574640"/>
                          <a:tab algn="l" pos="2023920"/>
                          <a:tab algn="l" pos="2473200"/>
                          <a:tab algn="l" pos="2922480"/>
                          <a:tab algn="l" pos="3371760"/>
                          <a:tab algn="l" pos="3821040"/>
                          <a:tab algn="l" pos="4270320"/>
                          <a:tab algn="l" pos="4719600"/>
                          <a:tab algn="l" pos="5168880"/>
                          <a:tab algn="l" pos="5618160"/>
                          <a:tab algn="l" pos="6067440"/>
                          <a:tab algn="l" pos="6516720"/>
                          <a:tab algn="l" pos="6966000"/>
                          <a:tab algn="l" pos="7415280"/>
                          <a:tab algn="l" pos="7864560"/>
                          <a:tab algn="l" pos="8313840"/>
                          <a:tab algn="l" pos="8763120"/>
                          <a:tab algn="l" pos="9212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Установление партнёрских связей со школой, с  домом культуры, с библиотекой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82000"/>
                        </a:lnSpc>
                        <a:buClr>
                          <a:srgbClr val="000000"/>
                        </a:buClr>
                        <a:buFont typeface="Franklin Gothic Book"/>
                        <a:buAutoNum type="arabicPeriod"/>
                        <a:tabLst>
                          <a:tab algn="l" pos="228600"/>
                          <a:tab algn="l" pos="676440"/>
                          <a:tab algn="l" pos="1125360"/>
                          <a:tab algn="l" pos="1574640"/>
                          <a:tab algn="l" pos="2023920"/>
                          <a:tab algn="l" pos="2473200"/>
                          <a:tab algn="l" pos="2922480"/>
                          <a:tab algn="l" pos="3371760"/>
                          <a:tab algn="l" pos="3821040"/>
                          <a:tab algn="l" pos="4270320"/>
                          <a:tab algn="l" pos="4719600"/>
                          <a:tab algn="l" pos="5168880"/>
                          <a:tab algn="l" pos="5618160"/>
                          <a:tab algn="l" pos="6067440"/>
                          <a:tab algn="l" pos="6516720"/>
                          <a:tab algn="l" pos="6966000"/>
                          <a:tab algn="l" pos="7415280"/>
                          <a:tab algn="l" pos="7864560"/>
                          <a:tab algn="l" pos="8313840"/>
                          <a:tab algn="l" pos="8763120"/>
                          <a:tab algn="l" pos="9212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ие родительских собраний по рассмотрению вопроса о моделировании театрализованного уголка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82000"/>
                        </a:lnSpc>
                        <a:buClr>
                          <a:srgbClr val="000000"/>
                        </a:buClr>
                        <a:buFont typeface="Franklin Gothic Book"/>
                        <a:buAutoNum type="arabicPeriod"/>
                        <a:tabLst>
                          <a:tab algn="l" pos="228600"/>
                          <a:tab algn="l" pos="676440"/>
                          <a:tab algn="l" pos="1125360"/>
                          <a:tab algn="l" pos="1574640"/>
                          <a:tab algn="l" pos="2023920"/>
                          <a:tab algn="l" pos="2473200"/>
                          <a:tab algn="l" pos="2922480"/>
                          <a:tab algn="l" pos="3371760"/>
                          <a:tab algn="l" pos="3821040"/>
                          <a:tab algn="l" pos="4270320"/>
                          <a:tab algn="l" pos="4719600"/>
                          <a:tab algn="l" pos="5168880"/>
                          <a:tab algn="l" pos="5618160"/>
                          <a:tab algn="l" pos="6067440"/>
                          <a:tab algn="l" pos="6516720"/>
                          <a:tab algn="l" pos="6966000"/>
                          <a:tab algn="l" pos="7415280"/>
                          <a:tab algn="l" pos="7864560"/>
                          <a:tab algn="l" pos="8313840"/>
                          <a:tab algn="l" pos="8763120"/>
                          <a:tab algn="l" pos="9212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театрализованного представления для воспитанников обучающимися школы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82000"/>
                        </a:lnSpc>
                        <a:buClr>
                          <a:srgbClr val="000000"/>
                        </a:buClr>
                        <a:buFont typeface="Franklin Gothic Book"/>
                        <a:buAutoNum type="arabicPeriod"/>
                        <a:tabLst>
                          <a:tab algn="l" pos="228600"/>
                          <a:tab algn="l" pos="676440"/>
                          <a:tab algn="l" pos="1125360"/>
                          <a:tab algn="l" pos="1574640"/>
                          <a:tab algn="l" pos="2023920"/>
                          <a:tab algn="l" pos="2473200"/>
                          <a:tab algn="l" pos="2922480"/>
                          <a:tab algn="l" pos="3371760"/>
                          <a:tab algn="l" pos="3821040"/>
                          <a:tab algn="l" pos="4270320"/>
                          <a:tab algn="l" pos="4719600"/>
                          <a:tab algn="l" pos="5168880"/>
                          <a:tab algn="l" pos="5618160"/>
                          <a:tab algn="l" pos="6067440"/>
                          <a:tab algn="l" pos="6516720"/>
                          <a:tab algn="l" pos="6966000"/>
                          <a:tab algn="l" pos="7415280"/>
                          <a:tab algn="l" pos="7864560"/>
                          <a:tab algn="l" pos="8313840"/>
                          <a:tab algn="l" pos="8763120"/>
                          <a:tab algn="l" pos="9212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ие театрализованных игр с целью  формирования представлений о Театр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36000" rIns="36000" tIns="402840" bIns="0" anchor="ctr">
                      <a:noAutofit/>
                    </a:bodyPr>
                    <a:p>
                      <a:pPr marL="71280">
                        <a:lnSpc>
                          <a:spcPct val="83000"/>
                        </a:lnSpc>
                        <a:tabLst>
                          <a:tab algn="l" pos="0"/>
                          <a:tab algn="l" pos="71280"/>
                          <a:tab algn="l" pos="519120"/>
                          <a:tab algn="l" pos="968400"/>
                          <a:tab algn="l" pos="1417680"/>
                          <a:tab algn="l" pos="1866960"/>
                          <a:tab algn="l" pos="2316240"/>
                          <a:tab algn="l" pos="2765520"/>
                          <a:tab algn="l" pos="3214800"/>
                          <a:tab algn="l" pos="3664080"/>
                          <a:tab algn="l" pos="4113360"/>
                          <a:tab algn="l" pos="4562640"/>
                          <a:tab algn="l" pos="5011560"/>
                          <a:tab algn="l" pos="5460840"/>
                          <a:tab algn="l" pos="5910120"/>
                          <a:tab algn="l" pos="6359400"/>
                          <a:tab algn="l" pos="6808680"/>
                          <a:tab algn="l" pos="7257960"/>
                          <a:tab algn="l" pos="7707240"/>
                          <a:tab algn="l" pos="8156520"/>
                          <a:tab algn="l" pos="8605800"/>
                          <a:tab algn="l" pos="9055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ользователи резултата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99960" bIns="0" anchor="t">
                      <a:noAutofit/>
                    </a:bodyPr>
                    <a:p>
                      <a:pPr lvl="1" marL="284040">
                        <a:lnSpc>
                          <a:spcPct val="82000"/>
                        </a:lnSpc>
                        <a:tabLst>
                          <a:tab algn="l" pos="0"/>
                          <a:tab algn="l" pos="284040"/>
                          <a:tab algn="l" pos="731880"/>
                          <a:tab algn="l" pos="1181160"/>
                          <a:tab algn="l" pos="1630440"/>
                          <a:tab algn="l" pos="2079720"/>
                          <a:tab algn="l" pos="2529000"/>
                          <a:tab algn="l" pos="2978280"/>
                          <a:tab algn="l" pos="3427560"/>
                          <a:tab algn="l" pos="3876840"/>
                          <a:tab algn="l" pos="4325760"/>
                          <a:tab algn="l" pos="4775040"/>
                          <a:tab algn="l" pos="5224320"/>
                          <a:tab algn="l" pos="5673600"/>
                          <a:tab algn="l" pos="6122880"/>
                          <a:tab algn="l" pos="6572160"/>
                          <a:tab algn="l" pos="7021440"/>
                          <a:tab algn="l" pos="7470720"/>
                          <a:tab algn="l" pos="7920000"/>
                          <a:tab algn="l" pos="8369280"/>
                          <a:tab algn="l" pos="8818560"/>
                          <a:tab algn="l" pos="9267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оспитанники МБОУ «Нижнесеребрянская ООШ»- «Детский сад»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5" name="Text Box 39"/>
          <p:cNvSpPr/>
          <p:nvPr/>
        </p:nvSpPr>
        <p:spPr>
          <a:xfrm>
            <a:off x="214200" y="357120"/>
            <a:ext cx="8686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6" name=""/>
          <p:cNvGraphicFramePr/>
          <p:nvPr/>
        </p:nvGraphicFramePr>
        <p:xfrm>
          <a:off x="179280" y="534960"/>
          <a:ext cx="8740800" cy="6240600"/>
        </p:xfrm>
        <a:graphic>
          <a:graphicData uri="http://schemas.openxmlformats.org/drawingml/2006/table">
            <a:tbl>
              <a:tblPr/>
              <a:tblGrid>
                <a:gridCol w="409680"/>
                <a:gridCol w="2519280"/>
                <a:gridCol w="785880"/>
                <a:gridCol w="1041480"/>
                <a:gridCol w="1008000"/>
                <a:gridCol w="247680"/>
                <a:gridCol w="247680"/>
                <a:gridCol w="247680"/>
                <a:gridCol w="247680"/>
                <a:gridCol w="247680"/>
                <a:gridCol w="247680"/>
                <a:gridCol w="247320"/>
                <a:gridCol w="247680"/>
                <a:gridCol w="243000"/>
                <a:gridCol w="252360"/>
                <a:gridCol w="249120"/>
                <a:gridCol w="250920"/>
              </a:tblGrid>
              <a:tr h="270720">
                <a:tc rowSpan="2">
                  <a:txBody>
                    <a:bodyPr lIns="90000" rIns="90000" tIns="630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630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ость,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6300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9-2020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рганизационно-подготовительная работа по внедрению проек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9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0.11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800000"/>
                          </a:solidFill>
                          <a:latin typeface="Franklin Gothic Book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Изучение актуальности проблем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9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10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800000"/>
                          </a:solidFill>
                          <a:latin typeface="Franklin Gothic Book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Выявление объектов для создания театрализованного угол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.10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7.10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800000"/>
                          </a:solidFill>
                          <a:latin typeface="Franklin Gothic Book"/>
                        </a:rPr>
                        <a:t>1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накомство со специальной литературой по созданию театрализованного угол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.10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0.11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44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800000"/>
                          </a:solidFill>
                          <a:latin typeface="Franklin Gothic Book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888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ведение мониторинговых исследований по выявлению </a:t>
                      </a: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ровня развивающей среды в разновозрастной группе дошкольного образовательного 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12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.12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800000"/>
                          </a:solidFill>
                          <a:latin typeface="Franklin Gothic Book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одбор методик для выявления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ровня развивающей среды в разновозрастной групп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12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.12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800000"/>
                          </a:solidFill>
                          <a:latin typeface="Franklin Gothic Book"/>
                        </a:rPr>
                        <a:t>2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ведение методик для выявления уровня развивающей среды в разновозрастной групп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12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12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800000"/>
                          </a:solidFill>
                          <a:latin typeface="Franklin Gothic Book"/>
                        </a:rPr>
                        <a:t>2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бработка результатов методических исследова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6.12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3.12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gridSpan="2">
                  <a:txBody>
                    <a:bodyPr lIns="90000" rIns="90000" tIns="658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056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Franklin Gothic Book"/>
                          <a:ea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7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Text Box 540"/>
          <p:cNvSpPr/>
          <p:nvPr/>
        </p:nvSpPr>
        <p:spPr>
          <a:xfrm>
            <a:off x="1000080" y="47520"/>
            <a:ext cx="7326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8" name=""/>
          <p:cNvGraphicFramePr/>
          <p:nvPr/>
        </p:nvGraphicFramePr>
        <p:xfrm>
          <a:off x="324000" y="836640"/>
          <a:ext cx="8521560" cy="5040360"/>
        </p:xfrm>
        <a:graphic>
          <a:graphicData uri="http://schemas.openxmlformats.org/drawingml/2006/table">
            <a:tbl>
              <a:tblPr/>
              <a:tblGrid>
                <a:gridCol w="422280"/>
                <a:gridCol w="3006720"/>
                <a:gridCol w="500040"/>
                <a:gridCol w="877680"/>
                <a:gridCol w="814320"/>
                <a:gridCol w="328680"/>
                <a:gridCol w="285840"/>
                <a:gridCol w="216000"/>
                <a:gridCol w="285480"/>
                <a:gridCol w="285840"/>
                <a:gridCol w="357120"/>
                <a:gridCol w="285840"/>
                <a:gridCol w="285840"/>
                <a:gridCol w="285840"/>
                <a:gridCol w="284040"/>
              </a:tblGrid>
              <a:tr h="255600">
                <a:tc rowSpan="2">
                  <a:txBody>
                    <a:bodyPr lIns="90000" rIns="90000" tIns="62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62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62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ность, дн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62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62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6228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20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6228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21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1368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22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601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658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816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зучение плана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1.20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5.12.20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658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816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здание творческих групп по изготовлению театрализованных отрибутов для угол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1. 20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1.01.20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658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816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театрализованных представлений для воспитанник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.02.20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5.20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658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816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ие театрализованных игр с целью формирования представлений о Театр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8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.05.20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5.12.20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658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79560" bIns="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работы по созданию театрализованного угол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1.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5.05.20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59200">
                <a:tc>
                  <a:txBody>
                    <a:bodyPr lIns="90000" rIns="90000" tIns="658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79560" bIns="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ка плана по создан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1.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728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3.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658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79560" bIns="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Установление партнерских связей со школо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4.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9.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658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79560" bIns="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Апробация театрализованного уголка при проведении праздник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5.09.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9.11.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 gridSpan="2">
                  <a:txBody>
                    <a:bodyPr lIns="0" rIns="0" tIns="1548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40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9" name="Text Box 576"/>
          <p:cNvSpPr/>
          <p:nvPr/>
        </p:nvSpPr>
        <p:spPr>
          <a:xfrm>
            <a:off x="1093680" y="-1440"/>
            <a:ext cx="73263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"/>
          <p:cNvGraphicFramePr/>
          <p:nvPr/>
        </p:nvGraphicFramePr>
        <p:xfrm>
          <a:off x="428760" y="1143000"/>
          <a:ext cx="8391240" cy="5052960"/>
        </p:xfrm>
        <a:graphic>
          <a:graphicData uri="http://schemas.openxmlformats.org/drawingml/2006/table">
            <a:tbl>
              <a:tblPr/>
              <a:tblGrid>
                <a:gridCol w="426960"/>
                <a:gridCol w="2787480"/>
                <a:gridCol w="571680"/>
                <a:gridCol w="1003320"/>
                <a:gridCol w="1031760"/>
                <a:gridCol w="219240"/>
                <a:gridCol w="255600"/>
                <a:gridCol w="295200"/>
                <a:gridCol w="309600"/>
                <a:gridCol w="218880"/>
                <a:gridCol w="254160"/>
                <a:gridCol w="255600"/>
                <a:gridCol w="253800"/>
                <a:gridCol w="249480"/>
                <a:gridCol w="258480"/>
              </a:tblGrid>
              <a:tr h="460080">
                <a:tc rowSpan="2">
                  <a:txBody>
                    <a:bodyPr lIns="90000" rIns="90000" tIns="63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6372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1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ность, дн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1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1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637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20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637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21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630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22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V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V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594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нформационное сопровождение результатов проек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.05.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5.05.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799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799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66456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мещение на сайте, видео и фотоматериалов  по созданию угол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5.05.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.09.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1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720" bIns="46800" anchor="t">
                      <a:noAutofit/>
                    </a:bodyPr>
                    <a:p>
                      <a:pPr algn="just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здание информационного стенда для размещения результатов проек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.02.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4.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1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6660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0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убликации и заметки в районной газете «Ровеньская Нива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4.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2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9.05.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1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7992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10480">
                <a:tc>
                  <a:txBody>
                    <a:bodyPr lIns="0" rIns="0" tIns="180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66600" bIns="0" anchor="t">
                      <a:noAutofit/>
                    </a:bodyPr>
                    <a:p>
                      <a:pPr marL="95400">
                        <a:lnSpc>
                          <a:spcPct val="96000"/>
                        </a:lnSpc>
                        <a:tabLst>
                          <a:tab algn="l" pos="0"/>
                          <a:tab algn="l" pos="95400"/>
                          <a:tab algn="l" pos="542880"/>
                          <a:tab algn="l" pos="992160"/>
                          <a:tab algn="l" pos="1441440"/>
                          <a:tab algn="l" pos="1890720"/>
                          <a:tab algn="l" pos="2340000"/>
                          <a:tab algn="l" pos="2789280"/>
                          <a:tab algn="l" pos="3238560"/>
                          <a:tab algn="l" pos="3687840"/>
                          <a:tab algn="l" pos="4137120"/>
                          <a:tab algn="l" pos="4586400"/>
                          <a:tab algn="l" pos="5035680"/>
                          <a:tab algn="l" pos="5484960"/>
                          <a:tab algn="l" pos="5934240"/>
                          <a:tab algn="l" pos="6383160"/>
                          <a:tab algn="l" pos="6832440"/>
                          <a:tab algn="l" pos="7281720"/>
                          <a:tab algn="l" pos="7731000"/>
                          <a:tab algn="l" pos="8180280"/>
                          <a:tab algn="l" pos="8629560"/>
                          <a:tab algn="l" pos="9078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ие презентации созданного театрального угол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944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944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.05.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944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.05.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4200">
                <a:tc gridSpan="2">
                  <a:txBody>
                    <a:bodyPr lIns="0" rIns="0" tIns="1980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7720" bIns="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9520" bIns="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1" name="Text Box 338"/>
          <p:cNvSpPr/>
          <p:nvPr/>
        </p:nvSpPr>
        <p:spPr>
          <a:xfrm>
            <a:off x="1103400" y="452520"/>
            <a:ext cx="73263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1"/>
          <p:cNvSpPr/>
          <p:nvPr/>
        </p:nvSpPr>
        <p:spPr>
          <a:xfrm>
            <a:off x="3000240" y="3071880"/>
            <a:ext cx="3143520" cy="1571400"/>
          </a:xfrm>
          <a:prstGeom prst="roundRect">
            <a:avLst>
              <a:gd name="adj" fmla="val 16667"/>
            </a:avLst>
          </a:prstGeom>
          <a:solidFill>
            <a:srgbClr val="47ffd1"/>
          </a:solidFill>
          <a:ln cap="sq"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b4a76"/>
                </a:solidFill>
                <a:latin typeface="Times New Roman"/>
              </a:rPr>
              <a:t>Создание театрализованного уг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2"/>
          <p:cNvSpPr/>
          <p:nvPr/>
        </p:nvSpPr>
        <p:spPr>
          <a:xfrm>
            <a:off x="428760" y="360360"/>
            <a:ext cx="2739960" cy="1282680"/>
          </a:xfrm>
          <a:prstGeom prst="roundRect">
            <a:avLst>
              <a:gd name="adj" fmla="val 16667"/>
            </a:avLst>
          </a:prstGeom>
          <a:solidFill>
            <a:srgbClr val="60c99c"/>
          </a:solidFill>
          <a:ln cap="sq"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Franklin Gothic Book"/>
              </a:rPr>
              <a:t>Организация театрального предст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4" name="AutoShape 3"/>
          <p:cNvCxnSpPr/>
          <p:nvPr/>
        </p:nvCxnSpPr>
        <p:spPr>
          <a:xfrm flipH="1" flipV="1">
            <a:off x="2785320" y="1785600"/>
            <a:ext cx="1143720" cy="1286640"/>
          </a:xfrm>
          <a:prstGeom prst="straightConnector1">
            <a:avLst/>
          </a:prstGeom>
          <a:ln cap="sq" w="28440">
            <a:solidFill>
              <a:srgbClr val="404040"/>
            </a:solidFill>
            <a:miter/>
            <a:tailEnd len="med" type="arrow" w="med"/>
          </a:ln>
        </p:spPr>
      </p:cxnSp>
      <p:cxnSp>
        <p:nvCxnSpPr>
          <p:cNvPr id="665" name="AutoShape 5"/>
          <p:cNvCxnSpPr/>
          <p:nvPr/>
        </p:nvCxnSpPr>
        <p:spPr>
          <a:xfrm flipV="1">
            <a:off x="5072040" y="1642320"/>
            <a:ext cx="1000800" cy="1429560"/>
          </a:xfrm>
          <a:prstGeom prst="straightConnector1">
            <a:avLst/>
          </a:prstGeom>
          <a:ln cap="sq" w="28440">
            <a:solidFill>
              <a:srgbClr val="404040"/>
            </a:solidFill>
            <a:miter/>
            <a:tailEnd len="med" type="arrow" w="med"/>
          </a:ln>
        </p:spPr>
      </p:cxnSp>
      <p:cxnSp>
        <p:nvCxnSpPr>
          <p:cNvPr id="666" name="AutoShape 6"/>
          <p:cNvCxnSpPr/>
          <p:nvPr/>
        </p:nvCxnSpPr>
        <p:spPr>
          <a:xfrm>
            <a:off x="5729760" y="4766040"/>
            <a:ext cx="1031760" cy="747000"/>
          </a:xfrm>
          <a:prstGeom prst="straightConnector1">
            <a:avLst/>
          </a:prstGeom>
          <a:ln cap="sq" w="28440">
            <a:solidFill>
              <a:srgbClr val="404040"/>
            </a:solidFill>
            <a:miter/>
            <a:tailEnd len="med" type="arrow" w="med"/>
          </a:ln>
        </p:spPr>
      </p:cxnSp>
      <p:cxnSp>
        <p:nvCxnSpPr>
          <p:cNvPr id="667" name="AutoShape 7"/>
          <p:cNvCxnSpPr/>
          <p:nvPr/>
        </p:nvCxnSpPr>
        <p:spPr>
          <a:xfrm flipH="1">
            <a:off x="2743200" y="4698720"/>
            <a:ext cx="851760" cy="687960"/>
          </a:xfrm>
          <a:prstGeom prst="straightConnector1">
            <a:avLst/>
          </a:prstGeom>
          <a:ln cap="sq" w="28440">
            <a:solidFill>
              <a:srgbClr val="404040"/>
            </a:solidFill>
            <a:miter/>
            <a:tailEnd len="med" type="arrow" w="med"/>
          </a:ln>
        </p:spPr>
      </p:cxnSp>
      <p:sp>
        <p:nvSpPr>
          <p:cNvPr id="668" name="AutoShape 8"/>
          <p:cNvSpPr/>
          <p:nvPr/>
        </p:nvSpPr>
        <p:spPr>
          <a:xfrm>
            <a:off x="5715000" y="287280"/>
            <a:ext cx="2708280" cy="1284480"/>
          </a:xfrm>
          <a:prstGeom prst="roundRect">
            <a:avLst>
              <a:gd name="adj" fmla="val 16667"/>
            </a:avLst>
          </a:prstGeom>
          <a:solidFill>
            <a:srgbClr val="60c99c"/>
          </a:solidFill>
          <a:ln cap="sq"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Создание театрализованных атрибу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9"/>
          <p:cNvSpPr/>
          <p:nvPr/>
        </p:nvSpPr>
        <p:spPr>
          <a:xfrm>
            <a:off x="250920" y="5445000"/>
            <a:ext cx="3106800" cy="1373400"/>
          </a:xfrm>
          <a:prstGeom prst="roundRect">
            <a:avLst>
              <a:gd name="adj" fmla="val 16667"/>
            </a:avLst>
          </a:prstGeom>
          <a:solidFill>
            <a:srgbClr val="60c99c"/>
          </a:solidFill>
          <a:ln cap="sq"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Проведение театрализованных иг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AutoShape 11"/>
          <p:cNvSpPr/>
          <p:nvPr/>
        </p:nvSpPr>
        <p:spPr>
          <a:xfrm>
            <a:off x="5322960" y="5575320"/>
            <a:ext cx="3490920" cy="1243080"/>
          </a:xfrm>
          <a:prstGeom prst="roundRect">
            <a:avLst>
              <a:gd name="adj" fmla="val 16667"/>
            </a:avLst>
          </a:prstGeom>
          <a:solidFill>
            <a:srgbClr val="60c99c"/>
          </a:solidFill>
          <a:ln cap="sq"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Экскурсия в  дом культуры, в библиоте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14" descr=""/>
          <p:cNvPicPr/>
          <p:nvPr/>
        </p:nvPicPr>
        <p:blipFill>
          <a:blip r:embed="rId1"/>
          <a:stretch/>
        </p:blipFill>
        <p:spPr>
          <a:xfrm>
            <a:off x="0" y="2936880"/>
            <a:ext cx="140796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User1</cp:lastModifiedBy>
  <cp:lastPrinted>2013-01-24T11:51:16Z</cp:lastPrinted>
  <dcterms:modified xsi:type="dcterms:W3CDTF">2019-11-12T10:40:50Z</dcterms:modified>
  <cp:revision>1068</cp:revision>
  <dc:subject/>
  <dc:title>Слайд 1</dc:title>
</cp:coreProperties>
</file>